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C9A01-F120-42F7-9D9A-01EE15403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7150E-43E1-4C1F-9BA1-A9DEE2B78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156B6-A9FE-4773-8687-515293069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BAACF-8A99-4CEE-A2F0-AB96DDE3E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6B180-9D6F-4F92-A6FC-FA90F3F37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B7246-535F-405B-8CD9-6F477CA16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66236-5CFE-4D67-95AE-80A82CA59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7163C-DDE9-4A49-B0C8-585BF0E42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C3BAA-CE0C-49B7-BA00-6751501E1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2FA9F-12FE-46D0-8118-842FC61E0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6C6E1-51C3-4AED-AF21-9C3EBF9E7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B636E-1E2C-4B6A-BD99-64036CA3C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47D4E-1A27-4162-9C25-FC153B697A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lict in Multi-Ethnic Socie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ri Lanka &amp; Northern Ire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conomic: Unemploy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ly 1983 riots led to massive unemploy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 number of the jobless were Sinhale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jobless took to vandalising, looting and burning their places of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conomic: Loss of Foreign Invest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eign Investments for a country's grow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a country is unstable, investors lose confidence i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e graph on pg 107 for impact of the conflict on Foreign Invest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conomic: Fall in number of Touris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urism is a major income earner for Sri Lan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urist arrivals decreased steadily after the July 1983 rio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resulted in a loss of jobs and earn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economy was affected and funds were limited for the development of infra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cial: Tamils driven out of their homela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nflict caused large-scale displacement of peo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ousands of Tamils fled to Tamil Nadu during the July 1983 rio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5,000 remain as refugees in Ind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cial: Tamils driven out of their homela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ri Lankan Army set up High Security Zones (HSZ) to keep LTTE a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 areas of Tamil land occupied by the ar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mils forced to flee after the army moved 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people still live in overcrowded conditions in refugee cam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are the consequences of the conflic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1 Political con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2 Economic con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3 Social con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litical: Armed Confli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mils made peaceful demands at fir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deral Party asked for recognition for Tamil areas as a fed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mands not met. Tamil United Liberation Front (TULF) emer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ULF calls for separate independent state which government re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Tamils form a militant group called the Liberation Tigers of Tamil Eelam (LTT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litical: Armed Confli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TTE more popularly known as Tamil Tigers (considered a terrorist organiza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Tigers have attack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nhale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mils members of the police fo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mil members/supporters of the ruling par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mil politicians who did not support the proposed separate 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litical: Armed Confli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halese also committed acts of viol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ly 1983 riots saw 14 Sinhalese soldiers killed and sparked a long armed confli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med conflict has lasted more than 20 years and cost more than 60,000 l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litical: Foreign Interven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onflict may attract the attention of another count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at may country may act as a media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untry may also send troops to directly solve the confli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litical: Foreign Interven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ia tried to play mediator after 1983 rio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eign Minister sent to medi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alogue failed as parties involved could not reach an agre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litical: Foreign Interven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ian govt sent 20 Indian ships to provide food and fuel to the Tamils (3 June 198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ips turned away by Sri Lankan nav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ia tried to air-drop the supplies and violated Sri Lankan airsp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litical: Foreign Interven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 pressure from India, Sri Lanka signed a peace accord with India (July 1987)(Peace Accord extract on pg 106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mil Tigers failed to disarm in accordance with Peace Acc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ia sent troops to take control of the Tamil Tigers (Oct 198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oops withdrawn in March 1990 after failing to defeat the Tig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8T01:27:00Z</dcterms:created>
  <dc:creator>moe</dc:creator>
  <dc:description/>
  <dc:language>en-US</dc:language>
  <cp:lastModifiedBy>moe</cp:lastModifiedBy>
  <dcterms:modified xsi:type="dcterms:W3CDTF">2009-01-28T01:41:31Z</dcterms:modified>
  <cp:revision>4</cp:revision>
  <dc:subject/>
  <dc:title>Conflict in Multi-Ethnic Societies</dc:title>
</cp:coreProperties>
</file>